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BB0-0395-40C5-923A-70DE0B69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B4A-B818-49AD-B961-D51FB2C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C7CD4-14EF-48E9-A5CD-B75E5219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3D1B7-3DB6-4AED-8C8A-2F4AF49A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15713-7FDD-4966-8197-6B77963A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53F9D-9035-490A-8E8E-91B2A76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F3572-8375-4C56-9C8C-B987957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919D2-3169-4675-AE50-447B9E35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84CF4-4470-49D2-AF27-F647CF6A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B20FD-E1AC-482C-A91E-005C9AB2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DCDCD-0CEC-445A-9E0F-AF39380E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405F8-E714-478E-A15F-5C009CBE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F77-2ABD-4669-8D8F-C106A054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F3EC7-3AD5-4617-ADEC-27EE729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09070-91F9-4C37-ACBE-95585655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546BB-A04E-42CC-B8F2-49C52ABF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87C6B-C27E-4D1F-A2BB-C30BC34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424D2-581B-4403-BD5F-73C475C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C4465-9805-4AC8-9D0A-B8C43B6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4DF57-7FE4-48DD-B80F-9ACC71CF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F232F-045E-47C6-9A1C-147B1AFE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275C9-E99A-4E7E-B32B-ED9ACBD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3F3B1-AEE3-423B-9712-E7C28A30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6BA-53D9-4F81-BED1-25DAFDBC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5D6B5-6BA2-4373-953A-0037C878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9D203-7C6D-43FD-9D7D-CD9D2396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AC3F-FBE5-43B5-8799-7D0582C9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50487-06B4-4530-A1D3-8BEC3E2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45B3A-D695-4DB6-9337-185AEDF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9C0CC-AC04-4F15-9A64-47F10C73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6415E-CD27-479C-BE77-616199C8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849D5-BDED-4341-975D-4DA38B3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E2BCE-0D7A-4B0A-832E-626FA07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7B5B-F8F7-4973-AC19-57F2464F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B41C-E344-4D84-B7D4-15499808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980FF-AF0D-4F77-9137-2C4D234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F7228-FF46-48F9-813F-34E22601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4E2D6-4198-4DC3-85CD-A20F5AFF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5AF2E-AF84-487F-91A0-5AA398B8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2123B-366E-4A28-B6C7-20115072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FEE46-BBAA-48C7-90C2-6DEC78BC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FA6FF-D8E5-4DD5-A9BA-CD5AAFFB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3BD1-BDD1-454F-A290-D373B2BA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A5A22-963D-4CB3-9D47-D42456C3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F84A5-32C4-43EF-986B-AD3A2A0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2271-D6E0-45AA-927D-D3DC5102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9A559-42DD-43C9-B326-2CA02CD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3904-0D93-4C6C-95A1-E936B6F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AAD45-76D2-49D4-9957-2A9BFC28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CB22B-6288-4308-B34A-3C4044CE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9E0C5-12AE-4259-9FE3-03A87448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CB5F3-724B-4B6D-9D1F-D15F9673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8A74B-BC12-417D-BDD3-EFBE5A61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3C97E-DFEF-47D0-88D4-07E58A66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3E77A-01D0-41F3-8DB1-68204BB8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855D0-0028-4453-89B5-543F197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DE4D-AF2F-4EEE-B083-042E29D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2981E-1115-4430-AE5C-DD47F0A6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335F6-3659-4034-B1A9-DB3EE04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9666B-611D-48CA-9627-1613F8B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30D1F-E05E-4E64-9608-F8A840A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1E175-780D-439E-9911-7D81E261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F7314-16F0-4107-B376-3530735F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765F8-CF0B-4218-8C11-0DCD32F2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45821-0A92-4D1F-810A-9A577C57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75C5E-5F70-4189-981C-E9BA90E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0E147-FA44-4F1B-B533-1FF0B2F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13A8-7F1E-4065-B2CE-1FDB5073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D37F7-9D32-4D35-B154-77CD71AC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9DC6D-2286-49B5-BE0C-BEB2501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C6AF9-9CA5-476E-A3DE-01C256B8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946A0-56F6-41DE-9268-FFF4BD5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BFC50-5D05-439F-953E-8D6B578D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93CCB-C31B-4C77-BDD1-63EC82A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91651-850E-4778-8A31-C2F7571C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27793-15E9-4BF4-8310-1E0C0E57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74D14-7904-4B81-BC64-DA8B654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0147-9F2E-4C2E-A6BA-C0A79B6A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7AE5-7E34-47AB-A286-745C07F7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BE4E-5CB6-44FE-92F8-5B04813E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620-82A8-421F-BA21-09C5D62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53E-C0DC-4AC6-B73B-0E8D17E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CEF-46F0-4FDD-872D-D6165392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D1EA-27CD-4F45-B896-79AC41DC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0CD3-EEF0-4583-AD8F-947617C2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6206-D859-4D5F-8FF2-AC5A106C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283B-F357-4843-A151-E8A8CF81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9071-52EE-4110-B031-BA26E15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C800-9946-416A-AB70-D81020C3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6A7B-D302-4765-8690-A72A3C2A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FA2D-AACE-4509-B489-37330DE3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241-EB3D-4A5A-B413-B8338AB3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DBB7-3259-4D18-BF6A-C352A106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54F3-B9A6-48B7-8196-72EA414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057F-7BDB-465C-A758-3782D95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90E0F-877C-47EB-8095-D22E1C9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55BA-C8E4-4103-BF82-44D7E553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CDA4-92DF-4534-9BD5-C870175F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DD4A-A282-4E1C-B8EF-4156277B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7AAC-295C-4ABB-8B3E-04881E5F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0764-6E23-4D60-BFCF-D536460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CE95-4469-4AA7-9801-0CB9DA1C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5BA-2D27-4FA0-8841-DA035EC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7ECD-78AD-4922-9E28-EBC68666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19A9-ACDB-405D-8E33-DEF9CA88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F7CF-B8E2-4E43-A9AB-72584866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D0D4-D2BB-4673-9846-D74315A4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670F-C6D0-47ED-80EC-5F7540F3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9E90-C0F8-4303-90A4-64410FC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6A3A-2B1D-486A-8EDB-2603B3D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382D-6735-44EC-833B-70067BD9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D3A4-C02B-457A-BA54-07B22450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FE1A-D5F4-4CBB-A434-A6BC1D42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9B3-B429-4373-9D8D-C0F1BE90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14C55-6F59-4480-8D11-1C472C5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C2A1-C942-44B8-B697-CFA6B653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CABAE-F0E5-420B-9341-F8F372F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4365D-423F-46A5-AA2B-C5F87B11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A1D2-F9EC-417E-93FD-EE69DD7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B5632-9A19-4C56-8107-E2924FD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034C-2BC3-442D-8AB1-F9380C4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C0D4-8457-43E3-A092-BFF579F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84B8-A3ED-4A31-A23D-D6C592E2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292E3-89E2-4417-A639-BB07DE75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143-1C24-46F6-9854-B4FB33D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FE56-2655-44F6-938D-15A5E904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A2C3-7CBB-4146-B330-AE65762A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32273-35EB-4655-B212-B6DC4917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434A-4DF2-496D-9D05-F68D2013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4122-C879-49FA-9112-483B48E1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A390-44D3-4F1E-B466-0857F8F1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99851-290E-469C-9D38-2D0F9C3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CC38-467B-4929-9F26-AB749284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E4BC-B887-4189-BC30-BFAA309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B6FB-43E2-4457-B978-052A40C7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1E1-FD06-4CFB-84DB-80E6A151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6F132-F9CF-49AB-8C5A-0634892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0E19-400F-4F85-B632-1AA115E3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F42C-2842-4590-88DD-1ECD5694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0419D-F783-498E-8574-C1CE12A9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19270-7781-485C-B2F4-8DAED723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DECBD-EE19-48BD-AD2A-B2F3005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7CE5C-251A-45B2-9002-B54CFBBC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8C7B3-85CD-4BCA-8FD3-86B5169A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7FC6D-619F-4695-B6A9-656A1B98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6D8D-31F4-43C7-8729-FD615AA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BBF-F097-4326-A554-162536A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1AD2-6EF3-4219-BCD0-4EAA1134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B2E6D-53AB-40DE-97D9-CE1D571C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B796-2B40-4C32-A9AB-DD7EFEBA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F920-A93A-4A1D-B826-C6ADE1C5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11B1-9A34-4DD8-9CEF-E883890F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E4AEF-E674-4D13-A8A7-BC62C0B5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870C3-0080-4A9B-A41C-409440A1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12DB1-052D-4E5A-AB19-91141A2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CCFA9-FFCC-49C4-853F-AC32896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DE442-FF49-44A3-9140-8DD61524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8CA-B3C4-4A77-A24D-B3C581E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B86CD-95CA-459E-BB7F-162BAB0A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2AF33-5584-47A0-ABBB-87D3868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43E0B-99D3-46F5-A040-90B5F07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A2C44-C4E7-409B-A324-528D412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1B9D7-CC32-47EA-9281-42C41972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B0E4-7411-4B07-A44E-6503D18D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A73F4-EB78-4AE4-90CA-499F5DF6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1016D-E1E0-4B9E-AF19-E948E262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2227E-0780-4545-AA93-152E1655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91C4B-EE39-4F7C-BA99-A2BB0056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3004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C64F71-32F9-4AD8-9A54-DA1E7E7BE98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9227D94-E456-4D33-854C-725A98FA2E6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8B6D0C-F318-4391-AB6C-F202CDD93EF2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28E4772-7FE1-4F3E-94F9-BC63080A66A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72A8B44-F8EA-4B4A-96D7-3F2B5C163B4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7C76E0-D3D2-4961-8471-E45E1EEDD2E5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9DDDB1-1FE4-48F7-A44D-EECFD5E7406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3004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0708C0-D7E3-4D74-B737-90C651F038D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F1C31E8-03D2-4E7F-92AB-5D942FA4BC9F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C37FFB7-DA1E-4D04-9825-2C91EC90C23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F1BC016-A043-475A-8796-244AC14FC184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FEADF8-FAB3-4853-BD25-739DE0F2B1DF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A353D01-BB3D-47EE-82E3-A3A1A1CF7D3E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DC92D68-8847-4A8F-BF10-832F4D2F186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7"/>
          <p:cNvSpPr/>
          <p:nvPr/>
        </p:nvSpPr>
        <p:spPr>
          <a:xfrm>
            <a:off x="475920" y="2781360"/>
            <a:ext cx="808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9900"/>
                </a:solidFill>
                <a:latin typeface="Arial"/>
              </a:rPr>
              <a:t>Technologická platforma Udržitelná energ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9900"/>
                </a:solidFill>
                <a:latin typeface="Arial"/>
              </a:rPr>
              <a:t>Aleš Laciok, předseda výkonného výboru TP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9900"/>
                </a:solidFill>
                <a:latin typeface="Arial"/>
              </a:rPr>
              <a:t>02/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Platforma TPU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33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4" name=""/>
          <p:cNvGraphicFramePr/>
          <p:nvPr/>
        </p:nvGraphicFramePr>
        <p:xfrm>
          <a:off x="836640" y="2736720"/>
          <a:ext cx="6262560" cy="3200400"/>
        </p:xfrm>
        <a:graphic>
          <a:graphicData uri="http://schemas.openxmlformats.org/drawingml/2006/table">
            <a:tbl>
              <a:tblPr/>
              <a:tblGrid>
                <a:gridCol w="1639800"/>
                <a:gridCol w="1541520"/>
                <a:gridCol w="1539720"/>
                <a:gridCol w="1541520"/>
              </a:tblGrid>
              <a:tr h="838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ozovate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robci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V a inženýrské organ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ké univerz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Z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JS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V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P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Power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Ú Brno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ŠB-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Ř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U Plze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Č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P Invest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s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ys+G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P Pra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Text Box 57"/>
          <p:cNvSpPr/>
          <p:nvPr/>
        </p:nvSpPr>
        <p:spPr>
          <a:xfrm>
            <a:off x="434880" y="6043680"/>
            <a:ext cx="88074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ledání širšího konsensu pro návrhy:  na základě Memoranda o spolupráci - MoS (uzavřeno s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regionálními distribučními společnostmi, Teplárenským sdružením ČR, COGEN, Aliancí české energetiky, SÚRAO, Národním centrem pro energetické úspory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,..…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9"/>
          <p:cNvSpPr/>
          <p:nvPr/>
        </p:nvSpPr>
        <p:spPr>
          <a:xfrm>
            <a:off x="517680" y="1484280"/>
            <a:ext cx="8626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jmové sdružení právnických osob (2009) - sdružení relevantních subjektů (průmysl, výzkum,.) podílející se na výzkumu, vývoji a inovacích ve strategicky významné technologické oblasti; cílem je vytvořit střednědobou až dlouhodobou vizi budoucího technologického rozvoje a definovat tomu odpovídající výzkum a výv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Orgány TPU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38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9" name=""/>
          <p:cNvGraphicFramePr/>
          <p:nvPr/>
        </p:nvGraphicFramePr>
        <p:xfrm>
          <a:off x="468360" y="3500280"/>
          <a:ext cx="8351640" cy="2519640"/>
        </p:xfrm>
        <a:graphic>
          <a:graphicData uri="http://schemas.openxmlformats.org/drawingml/2006/table">
            <a:tbl>
              <a:tblPr/>
              <a:tblGrid>
                <a:gridCol w="5769000"/>
                <a:gridCol w="2582640"/>
              </a:tblGrid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. Ing. František Hrdlička, CSc.- PŘEDSE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V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. Ing. Jaroslav Machan, CSc. - MÍSTOPŘEDSE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 V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Ladislav Štěpá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Z, a. 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Karel Křížek, 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Ing. Jaroslava Ira, 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san ŠKODA POWER 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Jiří Ka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J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Jiří Ptáček, Ph.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Ú Brno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Eduard Muřick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Dr. Lukáš Levá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Š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468360" y="1776240"/>
          <a:ext cx="8351640" cy="1390680"/>
        </p:xfrm>
        <a:graphic>
          <a:graphicData uri="http://schemas.openxmlformats.org/drawingml/2006/table">
            <a:tbl>
              <a:tblPr/>
              <a:tblGrid>
                <a:gridCol w="5737320"/>
                <a:gridCol w="2614320"/>
              </a:tblGrid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r. Aleš Laciok, MBA - PŘEDSE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Z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Svatopluk Vnouč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P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Jan Jíl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J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orá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, a.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. Ing. Stanislav Mišák, Ph.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ŠB-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Text Box 651"/>
          <p:cNvSpPr/>
          <p:nvPr/>
        </p:nvSpPr>
        <p:spPr>
          <a:xfrm>
            <a:off x="491760" y="1436760"/>
            <a:ext cx="1635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konný vý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52"/>
          <p:cNvSpPr/>
          <p:nvPr/>
        </p:nvSpPr>
        <p:spPr>
          <a:xfrm>
            <a:off x="468360" y="3213000"/>
            <a:ext cx="8496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rávní rad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žlutě – zástupci státní správ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58"/>
          <p:cNvSpPr/>
          <p:nvPr/>
        </p:nvSpPr>
        <p:spPr>
          <a:xfrm>
            <a:off x="496800" y="6021360"/>
            <a:ext cx="185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Ředitel - Sekretá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68360" y="6308640"/>
          <a:ext cx="8351640" cy="277920"/>
        </p:xfrm>
        <a:graphic>
          <a:graphicData uri="http://schemas.openxmlformats.org/drawingml/2006/table">
            <a:tbl>
              <a:tblPr/>
              <a:tblGrid>
                <a:gridCol w="5791320"/>
                <a:gridCol w="2560320"/>
              </a:tblGrid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Lubor Žež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Co je charakteristické pro TPU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46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324000" y="1798560"/>
            <a:ext cx="9064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plexní pohled na energet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liv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řina, teplo/ch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a – přenos/distribuce – konečné 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derná energ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ázání s evropskými struktu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Skupina 5"/>
          <p:cNvGrpSpPr/>
          <p:nvPr/>
        </p:nvGrpSpPr>
        <p:grpSpPr>
          <a:xfrm>
            <a:off x="4643280" y="3803760"/>
            <a:ext cx="4186440" cy="2938320"/>
            <a:chOff x="4643280" y="3803760"/>
            <a:chExt cx="4186440" cy="2938320"/>
          </a:xfrm>
        </p:grpSpPr>
        <p:pic>
          <p:nvPicPr>
            <p:cNvPr id="650" name="Picture 2" descr=""/>
            <p:cNvPicPr/>
            <p:nvPr/>
          </p:nvPicPr>
          <p:blipFill>
            <a:blip r:embed="rId2"/>
            <a:stretch/>
          </p:blipFill>
          <p:spPr>
            <a:xfrm>
              <a:off x="4858920" y="3803760"/>
              <a:ext cx="3385800" cy="233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Ellipse 9"/>
            <p:cNvGrpSpPr/>
            <p:nvPr/>
          </p:nvGrpSpPr>
          <p:grpSpPr>
            <a:xfrm>
              <a:off x="7611480" y="4789440"/>
              <a:ext cx="1218240" cy="961200"/>
              <a:chOff x="7611480" y="4789440"/>
              <a:chExt cx="1218240" cy="961200"/>
            </a:xfrm>
          </p:grpSpPr>
          <p:pic>
            <p:nvPicPr>
              <p:cNvPr id="652" name="Ellips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7611480" y="4789440"/>
                <a:ext cx="1218240" cy="96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>
                <a:off x="7793280" y="4935960"/>
                <a:ext cx="85572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C2I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Ellipse 10"/>
            <p:cNvGrpSpPr/>
            <p:nvPr/>
          </p:nvGrpSpPr>
          <p:grpSpPr>
            <a:xfrm>
              <a:off x="7099920" y="5841720"/>
              <a:ext cx="1023120" cy="900360"/>
              <a:chOff x="7099920" y="5841720"/>
              <a:chExt cx="1023120" cy="900360"/>
            </a:xfrm>
          </p:grpSpPr>
          <p:pic>
            <p:nvPicPr>
              <p:cNvPr id="655" name="Ellips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9920" y="5841720"/>
                <a:ext cx="1023120" cy="9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"/>
              <p:cNvSpPr/>
              <p:nvPr/>
            </p:nvSpPr>
            <p:spPr>
              <a:xfrm>
                <a:off x="7255440" y="5977440"/>
                <a:ext cx="713520" cy="62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0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ESNI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lèche vers le bas 11"/>
            <p:cNvSpPr/>
            <p:nvPr/>
          </p:nvSpPr>
          <p:spPr>
            <a:xfrm>
              <a:off x="5155560" y="4579920"/>
              <a:ext cx="88560" cy="213840"/>
            </a:xfrm>
            <a:prstGeom prst="downArrow">
              <a:avLst>
                <a:gd name="adj1" fmla="val 50000"/>
                <a:gd name="adj2" fmla="val 48639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lèche droite 12"/>
            <p:cNvSpPr/>
            <p:nvPr/>
          </p:nvSpPr>
          <p:spPr>
            <a:xfrm rot="1314000">
              <a:off x="6830640" y="6037200"/>
              <a:ext cx="267840" cy="88560"/>
            </a:xfrm>
            <a:prstGeom prst="rightArrow">
              <a:avLst>
                <a:gd name="adj1" fmla="val 50000"/>
                <a:gd name="adj2" fmla="val 5159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48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lèche droite 13"/>
            <p:cNvSpPr/>
            <p:nvPr/>
          </p:nvSpPr>
          <p:spPr>
            <a:xfrm rot="5400000">
              <a:off x="7930440" y="4545720"/>
              <a:ext cx="308880" cy="75960"/>
            </a:xfrm>
            <a:prstGeom prst="rightArrow">
              <a:avLst>
                <a:gd name="adj1" fmla="val 50000"/>
                <a:gd name="adj2" fmla="val 48608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2" descr=""/>
            <p:cNvPicPr/>
            <p:nvPr/>
          </p:nvPicPr>
          <p:blipFill>
            <a:blip r:embed="rId5"/>
            <a:stretch/>
          </p:blipFill>
          <p:spPr>
            <a:xfrm>
              <a:off x="4643280" y="4839480"/>
              <a:ext cx="98460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Na čem se participovalo, co se prosazovalo</a:t>
            </a:r>
            <a:br>
              <a:rPr sz="2600"/>
            </a:b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a co se podařilo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62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324000" y="1873800"/>
            <a:ext cx="906444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ority orientovaného základního a aplikovaného VaV 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válené vládou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ktorové debaty (ÚV), Národní inovační platformy a RIS3 strat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ata začleně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sazování samostatného titulu podpory V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icipace na koncipování programu Theta (TA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tegický plán energetických technolo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oritní témata pro Č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6335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SVA a IAP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66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0"/>
          <p:cNvSpPr/>
          <p:nvPr/>
        </p:nvSpPr>
        <p:spPr>
          <a:xfrm>
            <a:off x="1187280" y="1989000"/>
            <a:ext cx="2665440" cy="503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derná energ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2"/>
          <p:cNvSpPr/>
          <p:nvPr/>
        </p:nvSpPr>
        <p:spPr>
          <a:xfrm>
            <a:off x="1187280" y="2541600"/>
            <a:ext cx="2665440" cy="503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asické zd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3"/>
          <p:cNvSpPr/>
          <p:nvPr/>
        </p:nvSpPr>
        <p:spPr>
          <a:xfrm>
            <a:off x="1189080" y="3079800"/>
            <a:ext cx="2663640" cy="6476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atřování, distrib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využití te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4"/>
          <p:cNvSpPr/>
          <p:nvPr/>
        </p:nvSpPr>
        <p:spPr>
          <a:xfrm>
            <a:off x="1189080" y="3789360"/>
            <a:ext cx="2665440" cy="503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35"/>
          <p:cNvSpPr/>
          <p:nvPr/>
        </p:nvSpPr>
        <p:spPr>
          <a:xfrm>
            <a:off x="5003640" y="2001960"/>
            <a:ext cx="2449800" cy="2154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teligentní města a regi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mart Cities and Commun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8"/>
          <p:cNvSpPr/>
          <p:nvPr/>
        </p:nvSpPr>
        <p:spPr>
          <a:xfrm>
            <a:off x="1116000" y="4406760"/>
            <a:ext cx="6049800" cy="6480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rspektivní energetické technologie a systémy s uplatněním v dlouhodobějším časovém horizo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9"/>
          <p:cNvSpPr/>
          <p:nvPr/>
        </p:nvSpPr>
        <p:spPr>
          <a:xfrm>
            <a:off x="7740720" y="1757520"/>
            <a:ext cx="1077840" cy="329220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ý pohled na energetiku (metodiky, data) – podpora vytváření vyvážených strate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ovéPole 1"/>
          <p:cNvSpPr/>
          <p:nvPr/>
        </p:nvSpPr>
        <p:spPr>
          <a:xfrm>
            <a:off x="406080" y="15890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ématické cí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ovéPole 13"/>
          <p:cNvSpPr/>
          <p:nvPr/>
        </p:nvSpPr>
        <p:spPr>
          <a:xfrm>
            <a:off x="554040" y="5373720"/>
            <a:ext cx="79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lší aspekty - mezinárodní spolupráce, organizace, lidské zdroje,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Technologický foresight (2017 – 2019)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78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84360" y="2060640"/>
          <a:ext cx="7488000" cy="2992320"/>
        </p:xfrm>
        <a:graphic>
          <a:graphicData uri="http://schemas.openxmlformats.org/drawingml/2006/table">
            <a:tbl>
              <a:tblPr/>
              <a:tblGrid>
                <a:gridCol w="4895640"/>
                <a:gridCol w="2592360"/>
              </a:tblGrid>
              <a:tr h="35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ordin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otřeba energie a energetické úsp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VIROS, s.r.o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novitelné zdroj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ŠB-TU Ost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lektrické sítě včetně akumulac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GU B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ýroba a distribuce tepla včetně kogenera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UT v Brn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ergie v dopravě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VUT v Pra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aderné zdroj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ÚJV Řež, a. 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osilní zdroj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VUT v Pra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Zásadní trendy v energetic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82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délník 1"/>
          <p:cNvSpPr/>
          <p:nvPr/>
        </p:nvSpPr>
        <p:spPr>
          <a:xfrm>
            <a:off x="684360" y="19969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Dekarboniza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(+ OZE a úsp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Decentr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Byla vždy (průmyslové energetiky), nyní výroba ele na lokální úrovni (domácí PV, popř. s akum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iza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(senzorika, data,…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Komplexita systému a prolínání oborů – energetika / chemie /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Elektrifikace (hl. doprava, průmyslové procesy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6:21:49Z</dcterms:created>
  <dc:creator>laciokale</dc:creator>
  <dc:description/>
  <dc:language>en-US</dc:language>
  <cp:lastModifiedBy>Soucek Ivan</cp:lastModifiedBy>
  <cp:lastPrinted>2017-09-26T08:31:40Z</cp:lastPrinted>
  <dcterms:modified xsi:type="dcterms:W3CDTF">2018-02-14T14:19:17Z</dcterms:modified>
  <cp:revision>121</cp:revision>
  <dc:subject/>
  <dc:title>Snímek 1</dc:title>
</cp:coreProperties>
</file>