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6348-2B80-4ACD-9C93-55148AB90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9840" y="491436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3728-8DB6-4B0F-B8C0-E78CD8ABC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984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552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E44D-5C07-4620-8D61-D448C47A4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440" y="364320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364320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9840" y="4914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440" y="4914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4914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9910-5F77-4E8E-885F-779497B3E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9840" y="364320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2704-BCEF-465F-85F5-B43C1FDFE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1223-43DF-43AA-B0B0-29C11FA1E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EEDB-FA79-4455-8773-69EE7E2BE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EC38-8034-42E0-9590-D08FF5EC2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9840" y="227628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4ADB-FC7E-4C78-8BE2-114D851DF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984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53B4-A371-4EC0-87C8-144240489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552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048C-9DF9-40C5-B1A5-D4A4914D7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9840" y="491436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F4BA-7812-4885-A292-E705CC7AF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caf8"/>
            </a:gs>
            <a:gs pos="50000">
              <a:srgbClr val="ffffff"/>
            </a:gs>
            <a:gs pos="100000">
              <a:srgbClr val="98ca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364320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349200" indent="-13428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537120" indent="-1072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752040" indent="-10728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59640" y="63813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4DC-2161-478F-9546-E698425C5B8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ázek 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762280" cy="718920"/>
          </a:xfrm>
          <a:prstGeom prst="rect">
            <a:avLst/>
          </a:prstGeom>
          <a:ln w="0">
            <a:noFill/>
          </a:ln>
        </p:spPr>
      </p:pic>
      <p:pic>
        <p:nvPicPr>
          <p:cNvPr id="4" name="Obrázek 2" descr=""/>
          <p:cNvPicPr/>
          <p:nvPr/>
        </p:nvPicPr>
        <p:blipFill>
          <a:blip r:embed="rId3"/>
          <a:stretch/>
        </p:blipFill>
        <p:spPr>
          <a:xfrm>
            <a:off x="6389640" y="189000"/>
            <a:ext cx="25034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vyzkum.cz/FrontClanek.aspx?idsekce=799318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Konference Trendy vývoje a synergie v chemii a energet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8920" y="4365720"/>
            <a:ext cx="64818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Setkání 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ČTP pro udržitelnou chemii (SusChem), ČTP Plasty, TP pro udržitelnou energetiku, ČTP pro využití biosložek v dopravě a chemickém průmyslu, České vodíkové technologické platform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14. 2. 2018, Technopark Kralupy - VŠCH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97160" y="692280"/>
            <a:ext cx="6307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287360"/>
            <a:ext cx="84978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P pro udržitelnou energetiku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rategická výzkumná agenda v energetice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(SVA) (2010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e pokouší definovat vizi nasazování nových technologií v energetice ČR do roku 2050 a exportní příležitosti průmyslu v této oblasti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Implementační akční plán v energetice (2014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ahrnuje následující tématické oblasti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roba elektřiny a tepla v jaderných zdrojí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roba elektřiny a tepla na fosilní paliv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roba distribuce chlad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lektrické sítě a jejich vazba na provoz a rozvoj ES Č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ie v dopravě a demostrace infrastruktur na úrovni velkých měst nebo regionů (Smart Citi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erspektivní energetické technologie k uplatnění v delším časovém horizont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ystémové analýzy pro podporu efektivního a udržitelného rozvoje energeti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BE64-45E5-455E-9E97-A1A45CA10F7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97160" y="692280"/>
            <a:ext cx="6307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560" y="980640"/>
            <a:ext cx="9037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TP PLASTY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Návr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Strategické výzkumné agendy ČTP PLASTY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(SVA) (2017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vychází z analýzy vědecko-výzkumné a výrobní základny ČR a z možností komercializovat výsledky vývoje s cílem posílit konkurenceschopnost českého plastikářského průmyslu. SVA se orientuje na vývoj polymerních materiálů s vyšším obsahem know how, s novými funkcionalitami, na vývoj nových technologií, které budou dostatečně efektivní pro nové plasty s vlastnostmi šitými na míru a přátelské k životnímu prostředí. Je strukturována se záměrem posílit perspektivu komercializace. Zahrnuje celý životní cyklus výrobku od vstupů přes vlastní výrobu plastů, jejich zpracování, aplikace v různých odvětvích průmyslu, stavebnictví, zemědělství a spotřebním zboží až po recyklaci výrobku, vč. ukončení životního cyklu těchto matriálů s ohledem na rostoucí důraz na ochranu životního prostředí včetně moří a zákaz jejich skládkování od roku 2025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udie – Technologický foresight výroby a zpracování plastů v kontextu globálního vývoje (2017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dentifikuje a popisuje hlavní globální megatrendy, které budou ovlivňovat vývoj společnosti v dlouhodobém horizontu (za horizont roku 2030). Současně se studie zaměřuje na popis vybraných vývojových trendů v hlavních aplikačních sektorech pro uplatnění plastů. Pochopení těchto hlavních transformačních procesů je důležitým předpokladem pro identifikaci současných a budoucích výzev technologického vývoje v oblasti výroby a zpracování plastů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4B4-24BD-4AD3-A739-D762768CCA5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6920" y="764640"/>
            <a:ext cx="63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3640" y="1916280"/>
            <a:ext cx="8421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eská vodíková technologická platform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rategická výzkumná agenda rozvoje vodíkového hospodářství v ČR“(SVA) (2010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identifikuje současný stav ve využívání vodíku jako energetického nosiče a zejména stanovuje cíle, kam by měl výzkum a využívání vodíku v ČR směřovat. Na SVA navazuje druhý dokument a tím je „Implementační akční plán rozvoje vodíkového hospodářství v ČR“ (IAP). Ten definuje způsob dosažení cílů, stanovených v SVA. Oba tyto dokumenty jsou v souladu s cíli a principy, které jsou definovány Fuel Cells And Hydrogen Joint Undertaking (FCH JU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udie – Využití vodíkového pohonu v dopravě v České Republice (2017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hodnotí potenciál využití vodíku v kontextu celosvětového a celoevropského technologického pokroku a trendů v této oblasti, a především při simulaci adopce vodíkové mobility v České republic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AA7A-1DB5-47EB-8B13-1F675E0CBD2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6920" y="764640"/>
            <a:ext cx="63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3640" y="1916280"/>
            <a:ext cx="8421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TP pro využití biosložek v dopravě a chemickém průmyslu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rategická výzkumná agenda ČTPB“(SVA) (2010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definuje pouze strategické oblasti zájmu v oblasti biopaliv v podmínkách České republiky (zdroje surovin, transfer na motorová paliva, udržitelnost produkce zdrojů surovin a transferu na motorová paliva, informační zdroje a jejich udržitelnost, legislativa a změny potřebné pro zajištění cílů Strategické výzkumné agendy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Rámec aktivit ČTPB v období 2017-2019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ahrnuje přehled možného zaměření ve 23 tématech v oblasti biopaliv 2 generace resp. chemických produktů (využití zemědělských odpadů, komunálních odpadů) a využítí CO2, výroba a využití el.energi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627-0EC3-4E08-AB44-1EE8416EDD1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ro naplnění svého poslání národní technologické platform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ají posilovat mezioborovou spolupráci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, neboť mezioborový přenos výsledků VaVaI může znásobit využitelnost těchto výsledků a multiplikovat ekonomický efekt plynoucí z VaVaI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Další zaměření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polupráce, synergie a překryvy v chemii a energet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F97-2B1F-4708-9740-ACBCF8414D6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997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0E28-AEA2-4018-8F68-19E5268A75D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984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99840" y="1773360"/>
            <a:ext cx="754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PLASTY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Suroviny a jejich dostupno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Energetická náročno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Životní cykl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Waste to energy/waste to sour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Vodík a uhlí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PLASTY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CO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Kaly ČO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Komunální odp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Residua B1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34F-F19C-4F85-B009-A7F0A8056CD7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984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9840" y="1773360"/>
            <a:ext cx="754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TPU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Dekarbonizace</a:t>
            </a:r>
            <a:r>
              <a:rPr b="0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 (+ OZE a úspory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Decentraliz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Byla vždy (průmyslové energetiky), nyní výroba ele na lokální úrovni (domácí PV, popř. s akumulací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Digitalizace</a:t>
            </a:r>
            <a:r>
              <a:rPr b="0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 (senzorika, data,…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Komplexita systému a prolínání oborů – energetika / chemie / ……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Elektrifikace (hl. doprava, průmyslové procesy,…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H2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Akumulace energ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„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čistá“ Mobil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Surovina pro chemický průmysl (N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Tahoma"/>
              </a:rPr>
              <a:t>3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, C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Tahoma"/>
              </a:rPr>
              <a:t>4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, C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Tahoma"/>
              </a:rPr>
              <a:t>3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OH aj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BAB-AA09-494E-9D55-3C7CF8A2297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984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213336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SusChem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chemické materiály pro konverzi a skladování energií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katalyzátory pro udržitelné energ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nteligentní domy a budov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lektromobil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ie z obnovitelných zdroj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etické využití odpadů/plastů - varian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odíková energe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Uhlík, jeho zdroje, koloběh a potře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926-F88F-43BF-88C8-857F82BB1687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FEA2-EFC9-4241-B169-50A60CAD34A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bdélník 1"/>
          <p:cNvSpPr/>
          <p:nvPr/>
        </p:nvSpPr>
        <p:spPr>
          <a:xfrm>
            <a:off x="324000" y="1639800"/>
            <a:ext cx="86216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0.30 – 11.00 Registrace účastníků, káva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1.00 – 11.15 Úvodní slovo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1.15 – 11.45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Vazby mezi chemií a energetikou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prof. RNDr. Václav Pačes, DrSc.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1.45 – 12.45 Prezentace aktivit a vizí národních technologických platforem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usChem, Plasty, Biopaliva, Udržitelná energetika a České vodíkové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echnologické platformy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2.45 – 13.15 Přestávka, občerstvení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3.15 – 14.45 Moderovaná diskuse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Spolupráce, synergie a překryvy v chemii a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nergetice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ůřezová témat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CO</a:t>
            </a:r>
            <a:r>
              <a:rPr b="0" lang="cs-CZ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materiály pro konverzi a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kladování energií, inteligentní domy a budovy, alternativní zdroje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ie, vodík, elektromobilita – výroba elektřiny, tepla, doprava i zdroj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ro chemický průmysl, energetické a surovinové využití odpadů/plastů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cirkulární ekonomika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4.45 – 15.15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hrnutí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a Návr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dkladů pro další spolupráci a jednání se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átní správou o činnosti a podpoře technologických platforem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5.15 – 16.00 Občerstvení, networking, neformální disk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1640" y="861480"/>
            <a:ext cx="396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3"/>
          <p:cNvSpPr/>
          <p:nvPr/>
        </p:nvSpPr>
        <p:spPr>
          <a:xfrm>
            <a:off x="8559720" y="6381720"/>
            <a:ext cx="38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8366-F214-4629-8986-FB44CB29B52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5080" y="907920"/>
            <a:ext cx="883764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66"/>
                </a:solidFill>
                <a:latin typeface="Arial"/>
              </a:rPr>
              <a:t>Struktura tržeb ve zpracovatelském průmyslu ( %) podle novosti produktu podniků s produktovou inovací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" name="Obrázek 1" descr=""/>
          <p:cNvPicPr/>
          <p:nvPr/>
        </p:nvPicPr>
        <p:blipFill>
          <a:blip r:embed="rId1"/>
          <a:stretch/>
        </p:blipFill>
        <p:spPr>
          <a:xfrm>
            <a:off x="2139840" y="1628640"/>
            <a:ext cx="689616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Obdélník 5"/>
          <p:cNvSpPr/>
          <p:nvPr/>
        </p:nvSpPr>
        <p:spPr>
          <a:xfrm>
            <a:off x="0" y="5923080"/>
            <a:ext cx="33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 u="sng">
                <a:solidFill>
                  <a:srgbClr val="0070c0"/>
                </a:solidFill>
                <a:uFillTx/>
                <a:latin typeface="Arial"/>
              </a:rPr>
              <a:t>Zdroj:</a:t>
            </a:r>
            <a:r>
              <a:rPr b="1" i="1" lang="cs-CZ" sz="900" spc="-1" strike="noStrike">
                <a:solidFill>
                  <a:srgbClr val="0070c0"/>
                </a:solidFill>
                <a:latin typeface="Arial"/>
              </a:rPr>
              <a:t> Analýza stavu výzkumu, vývoje a inovací v České republice a jejich srovnání se zahraničím v roce 2015 </a:t>
            </a:r>
            <a:r>
              <a:rPr b="0" lang="cs-CZ" sz="900" spc="-1" strike="noStrike" u="sng">
                <a:solidFill>
                  <a:srgbClr val="4d4d4d"/>
                </a:solidFill>
                <a:uFillTx/>
                <a:latin typeface="Arial"/>
                <a:hlinkClick r:id="rId2"/>
              </a:rPr>
              <a:t>http://www.vyzkum.cz/FrontClanek.aspx?idsekce=799318</a:t>
            </a:r>
            <a:r>
              <a:rPr b="1" i="1" lang="cs-CZ" sz="9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0" y="1844640"/>
            <a:ext cx="213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Calibri"/>
                <a:ea typeface="Calibri"/>
              </a:rPr>
              <a:t>Podpora inovací je posláním technologických platforem a jejich příspěvek pro zajištění konkurence-schopnosti navazujících průmyslových odvětví a tím i celého národního hospodářství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907560"/>
            <a:ext cx="6264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České technologické platfor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3640" y="1452240"/>
            <a:ext cx="862164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echnologické platformy jsou sdružení průmyslových podniků, malých a středních podniků, výzkumných a finančních institucí, zástupců Evropské komise, orgánů veřejné správy, uživatelů a spotřebitelů a organizací podílejících se na výzkumu, vývoji a inovacích v daném průmyslovém odvětví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Konkrétní cíle národních technologických platforem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vypracování strategií a podpora rozvoje oborů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vorba strategií rozvoje a podpory výzkumu, vývoje a zejména inovací v jednotlivých průmyslových oblastech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ransformace evropských strategií do národních strategi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aktivní spolupráce s evropskými technologickými platformami s cílem transformovat evropské strategické plány do národních plánů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plikace výsledků výzkumu do výroby a služeb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aktivovat a posílit spolupráci průmyslových podniků, zejména MSP, s výzkumnými a vzdělávacími institucemi s cílem aplikovat poznatky vědy a výzkumu těchto institucí v konkrétních inovovaných výrobcích a službách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zefektivnění prostředí podpory VaVaI v ČR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: jako nezávislé instituce se účastnit tvorby obsahu programů podporujících výzkum a vývoj v ČR, snaha o harmonizaci obsahu podpor se strategickými plány rozvoje definovanými NTP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2DBD-F997-47D5-8732-15E0A5DD27A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907560"/>
            <a:ext cx="6264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České technologické platfor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1844640"/>
            <a:ext cx="8621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 naplnění svého poslání národní technologické platformy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společně prosazovat jmenované cíle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neboť pouze efektivní a koordinovaná podpora VaVaI v ČR může přinést výsledky v podobě posílení konkurenceschopnosti českých podniků a v důsledku toho i posílení celé české ekonomik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posilovat mezioborovou spolupráci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neboť mezioborový přenos výsledků VaVaI může znásobit využitelnost těchto výsledků a multiplikovat ekonomický efekt plynoucí z VaVaI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společné propagovat VaVaI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posilovat spolupráci se zástupci veřejné správy a s dalšími organizacemi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: Hospodářskou komorou ČR, Svazem průmyslu a dopravy ČR, Technologickou agenturou ČR, Technologickým centrem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Akademie věd ČR a dalším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8A6E-1AD2-4083-B2C2-A12EC647E50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907560"/>
            <a:ext cx="640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Národní technologické platfo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4920" y="2133360"/>
            <a:ext cx="80485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technologická platforma pro udržitelnou chemii (ČTP SusChem)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chnologická platforma pro udržitelnou energetiku (TPU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technologická platforma PLASTY (ČTP Plas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technologická platforma pro využití biosložek v dopravě a chemickém průmyslu (ČTP Bio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vodíková technologická platforma (ČV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327C-344F-4299-B3E1-3CCCFCF5520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911F-F71C-42BA-8597-07D248648AC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bdélník 1"/>
          <p:cNvSpPr/>
          <p:nvPr/>
        </p:nvSpPr>
        <p:spPr>
          <a:xfrm>
            <a:off x="250920" y="1574640"/>
            <a:ext cx="85690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eská technologická platforma pro udržitelnou chemii (ČTP SusCh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 2005 byla ustavena Česká technologická platforma pro udržitelnou chemii (ČTP SusChem). Úkolem platformy je podpora aktivit a iniciativ organizací působících ve prospěch rozvoje chemie a chemického průmyslu v České republice a s tím spojených vědeckých, výzkumných, technologických a inovačních aktivit. Cílem platformy je zkoumat, identifikovat a eliminovat potenciální rizika vývoje chemie ve třech základních oblastech: průmyslové biotechnologie, technologie materiálů a nové typy reakcí a procesů a to s ohledem na technologickou vyspělost, šetrnost k životnímu prostředí, legislativu a surovinovou dostateč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eská technologická platforma PLAS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znik platformy byl iniciován v roce 2010 Svazem chemického průmyslu ČR (vznik v roce 2011) jako nástroj k podpoře a rozvoji mezinárodní spolupráce včetně zapojení do realizace hlavních činností spolupracujících evropských struktur, zejména PlasticsEurope; výzkumu, vývoje, inovací a vědecko-technického rozvoje včetně veřejného šíření výsledků VaVaI formou školení, publikací nebo transferu znalostí v sektoru výroby, zpracování, využití a recyklace plas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39640" y="83628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Historie a poslání ČT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C98-84ED-4DC2-94B5-18F4D590653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bdélník 1"/>
          <p:cNvSpPr/>
          <p:nvPr/>
        </p:nvSpPr>
        <p:spPr>
          <a:xfrm>
            <a:off x="104760" y="1197000"/>
            <a:ext cx="90378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Technologická platforma pro udržitelnou energetik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Byla založena v 2009 jako institucionální nástroj pro podporu aktivit souvisejících s výz-kumem, vývojem a zaváděním technologií využitelných pro udržitelný rozvoj výroby, přenosu a spotřeby moderních forem energie v ČR. TPUE mapuje a analyzuje techno-logické trendy a jejich vliv na energetiku,  podporuje aktivity pro zvýšení efektivity výzkumu a vývoje,  napomáhá zapojení do mezinárodního výzkumu a vývoje v energetice a poskytuje informace o vývoji energetických technologií pro širší veřej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39640" y="790560"/>
            <a:ext cx="4753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Historie a poslání ČT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Obdélník 1"/>
          <p:cNvSpPr/>
          <p:nvPr/>
        </p:nvSpPr>
        <p:spPr>
          <a:xfrm>
            <a:off x="108000" y="3284640"/>
            <a:ext cx="9036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TP pro využití biosložek v dopravě a chemickém průmysl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Byla založena v roce 2008 s původním cílem vytvořit a poskytovat expertní prostředí pro přípravu, vývoj, aplikaci a rozvoj použití biosložek v dopravě a v chemickém průmyslu v České republice. Hlavní činností ČTPB je analýza a hodnocení dostupnosti, kvality, ekonomiky a udržitelného pěstování biomasy, komerční dostupnosti, ekonomiky konverzních zařízení, včetně předzpracování a logistiky a sociálních a environmentálních aspektů pěstování biomasy pro konverzi na biosložk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eská vodíková technologická platfor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Byla založena v roce 2006 MPO ČR jako nástroj k podpoře vzájemné informovanosti subjektů působících v oblasti vodíkových technologií a koordinace aktivit souvisejících s rozvojem těchto aplik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6920" y="765000"/>
            <a:ext cx="6308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920" y="1341000"/>
            <a:ext cx="876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TP SusChem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Návr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Strategické výzkumné agendy pro materiálové technologie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(SVA) (2017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vychází z analýzy vědecko-výzkumné a výrobní základny ČR a z možností komercializovat výsledky vývoje s cílem posílit životaschopnost českého průmyslu. SVA se orientuje na podporu vývoje materiálů s vyšším využitím know how, s novými funkcionalitami, na vývoj nových technologií, které budou dostatečně efektivní pro nové materiály s vlastnostmi šitými na míru a přátelské k životnímu prostředí. Je strukturována aplikačně se záměrem posílit perspektivu komercializace. Zahrnuje fotovoltaiku, efektivní světelné zdroje, katalyzátory, spotřební zboží (např. stavební materiály, nátěrové hmoty, textil, kosmetiku), nanokompozity a materiály pro farmaceutický průmysl a zdravotnictví. SVA definuje prioritní výzkumná témata ve střednědobém a dlouhodobém horizontu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udie – Technologický foresight chemického průmyslu ČR v kontextu globálního vývoje (2017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dentifikuje a popisuje hlavní globální megatrendy, které budou ovlivňovat vývoj společnosti v dlouhodobém horizontu (za horizont roku 2030). Současně se studie zaměřuje na popis vybraných vývojových trendů v hlavních aplikačních sektorech pro uplatnění chemie, nezbytných pro identifikaci současných a budoucích výzev technologického vývoje v oblasti udržitelné chemi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04F8-30F2-46EE-B88F-8B4DC0EB2DE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dislav Novak</dc:creator>
  <dc:description/>
  <dc:language>en-US</dc:language>
  <cp:lastModifiedBy>Soucek Ivan</cp:lastModifiedBy>
  <cp:lastPrinted>2018-02-06T10:35:39Z</cp:lastPrinted>
  <dcterms:modified xsi:type="dcterms:W3CDTF">2018-02-14T14:18:40Z</dcterms:modified>
  <cp:revision>232</cp:revision>
  <dc:subject/>
  <dc:title>Prezentace aplikace PowerPoint</dc:title>
</cp:coreProperties>
</file>